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A2EB-50B8-4FF4-B53A-0BE76F16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DFF-8DA3-4738-9D76-04A759BB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8C7-B134-4385-9E4A-EDF75B7A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7AE9-C666-451F-B95E-B24A0AAD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B4A2-0FE8-4B1B-A1B8-4892255B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F23-D9FF-4677-8A8B-966E5B9E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800-EA40-4924-B903-62A13299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ACF1-DE5C-47B3-9FFD-041F102A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A0F-BEF9-40F4-94E1-47BE9DB8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64E-410C-4DD1-9E2A-A37DE7B0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721-BF95-46EF-A9FF-2518D6E2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5724-59AF-4A3C-92B7-34246EB0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7C1F58-9886-4746-87E8-29BF56B6DE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1724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he father of genetics is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Charles Darw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Gregor Mende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James Wats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Albert Einstein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3040" y="26668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. When Mendel crossed a true-breeding tall plant with a true-breeding short plant the offspring were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100% tal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50% tall, 50% sho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100% medium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3040" y="28954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. The product of a cross between two different strains that differ in regard to only one trait is known as a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true-breeding organis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hybri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dihybri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homozygous organism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7080" y="30481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. When Mendel crossed the hybrids (F1 generation)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all the plants were tal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all the plants were medium heigh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3/4 of the plants were tall, 1/4 of the plants were shor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3040" y="32767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 Mendel's law of segregation states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parents of contrasting appearance produce offspring of intermediate appearanc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factors for each trait separate during gamete form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organisms have two factors for each trai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both B and C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3040" y="388620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. A cross between two hybrids results in a _____ phenotypic ratio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9:3:3: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1:2: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3: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1:1:1:1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7080" y="32767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. Each physical trait is controlled by _____ allele(s)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w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thr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four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3040" y="28954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31724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. Mendel's true-breeding short plants in the P generation were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homozygous recessiv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homozygous domina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heterozygou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73040" y="26668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7752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. There is only one allele for each trait in the gametes because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each organism has only one allele for each trai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he homologous chromosomes separate during meiosis I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mitosis reduces the number of chromosomes when gametes are formed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7080" y="28954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1724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6. The recessive phenotype is displayed by organisms which are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homozygous domina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homozygous recessiv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heterozygou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3040" y="30481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. Which of the following represents a heterozygous genotype?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T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t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tall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3040" y="28954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Mendel studied the inheritance of ___________ in the garden pea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seed siz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seed col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flower siz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all of the abov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3040" y="37339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30000"/>
            <a:ext cx="777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8. Each gamete has only one allele for each trait because gametes are always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haploi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diploid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3040" y="28954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30000"/>
            <a:ext cx="777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9. A heterozygous (for one trait) organism can produce _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only one type of game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wo types of gamete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3040" y="32767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. Which of the following gametes would Mendel's true-breeding tall plants in the P generation have produced?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 or 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3040" y="28954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1724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. If a person is heterozygous for unattached earlobes, their genotype must be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e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3040" y="30481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. Which of the following represents a type of gamete?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T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t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7080" y="32767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9. Mendel relied heavily on his knowledge of ____ to interpret the results of his experiments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anatom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microbiolog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statistic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physic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7080" y="32767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1724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. The probable results of a genetic cross can be determined by using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a Punnett squ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he laws of probabilit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both A and B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3040" y="35053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7752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. If yellow seed color is dominant over green seed color in pea plants, we could use _____ to represent a homozygo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inant yellow seed producing plant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Y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Yy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3040" y="365760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7752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4. Mendel crossed his F1 generation tall plants with true-breeding, short plants. The results were a __________ phenotyp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1: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2: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3: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4:1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3040" y="28954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7752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. If an individual with the dominant phenotype is crossed with an individual with the recessive phenotype and all the offsp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the dominant phenotype, it would be concluded that the individual with the dominant phenotype is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homozygous domina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heterozygou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3040" y="365760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7752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According to the blending theory of inheritance, a cross between plants with red flowers and plants with white flowers woul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 only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plants with red flow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plants with white flow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plants with red and white flow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plants with pink flower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3040" y="411480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30000"/>
            <a:ext cx="777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8. If the chance of E = 1/2 and the chance of e = 1/2, then the chance of Ee =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1/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1/4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3040" y="32767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. E = unattached earlobes. e = attached earlobes. In the cross of Ee and Ee, the chance of a child with unattached earlob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1/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1/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3/4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3040" y="388620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1. The mother can roll her tongue (dominant phenotype), but her child cannot (recessive phenotype). The mother's phenotyp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T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t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3040" y="35053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. A mother and child can roll their tongues (dominant phenotype), but the father cannot (recessive phenotype). The child'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enotype must be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T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t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3040" y="35053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. If two flies heterozygous for wing length and body color are crossed, which of the following are possible results?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chance of L, long wings = 3/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chance of l, short wings = 1/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Chance of G, grey body = 1/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all of the above are tru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3040" y="26668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4. A cross in which true-breeding plants differ in two traits is known as a __________ cross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tes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dihybri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multi trai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hybrid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3040" y="28954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6. How many different types of gametes can a fly with the genotype LlGg produce?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w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thr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four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3040" y="37339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7752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7. When two dihybrid organisms are crossed and simple dominance is present in both genes a _____ phenotypic ratio wi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1:2: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3: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9:3:3: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1:1:1:1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3040" y="37339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9. The organism with the genotype LLGg will produce _____ type(s) of gamete(s)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w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thr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four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3040" y="28954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31724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. Which of the following types of gametes is not produced by an organism with the genotype LLGg?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L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l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Lg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3040" y="31240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dur="indefinite" fill="hold">
                      <p:stCondLst>
                        <p:cond delay="indefinite"/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Mendel's experiments are as applicable today as they were in 1860 due to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his careful experimental desig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his use of statistics to interpret his resul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his careful records of the numbers of offspring that expressed each characteristi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all of the abov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7080" y="39625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5. In dihybrid genetics problems, the individual has _____ allele(s)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w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thr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four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3040" y="365760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dur="indefinite" fill="hold">
                      <p:stCondLst>
                        <p:cond delay="indefinite"/>
                      </p:stCondLst>
                      <p:childTnLst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8. Which of the following genotypes represents an organism that is homozygous recessive for two traits?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l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Llg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llg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LLGG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3040" y="35053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7752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2. If the parents are heterozygous for cystic fibrosis (Ff x Ff), then each offspring has a _____ chance of having cyst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rosis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2%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25%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50%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75%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3040" y="32767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dur="indefinite" fill="hold">
                      <p:stCondLst>
                        <p:cond delay="indefinite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3. Selective breeding can be used to produce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crops with higher yiel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sheep with thicker co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chickens that lay larger egg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all of the abov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3040" y="35053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30000"/>
            <a:ext cx="777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Mendel's true-breeding pea plants were created by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self-pollin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cross-pollination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3040" y="28195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31724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. When an organism has two different alleles at a gene locus, it is referred to as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homozygous recessiv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homozygous domina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heterozygou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3040" y="35053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30000"/>
            <a:ext cx="777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 The allele that is expressed in a heterozygous organism is the _____ allele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domina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recessiv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7080" y="28195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 The word __________ refers to the alleles an individual receives at fertilization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genotyp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phenotyp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allotyp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lenotyp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3040" y="24382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1724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. Which of the following is a phenotype?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T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heterozygou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sho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7080" y="30481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34:09Z</dcterms:created>
  <dc:creator>A satisfied Microsoft Office User</dc:creator>
  <dc:description/>
  <dc:language>en-US</dc:language>
  <cp:lastModifiedBy>Donald C. Obenhuber</cp:lastModifiedBy>
  <dcterms:modified xsi:type="dcterms:W3CDTF">2003-11-19T15:45:04Z</dcterms:modified>
  <cp:revision>18</cp:revision>
  <dc:subject/>
  <dc:title>1. The father of genetics is_____.            A. Charles Darwin           B. Gregor Mendel           C. James Watson           D. Albert Einstein  </dc:title>
</cp:coreProperties>
</file>